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D2469-929A-40EE-BADA-0DFD9FAA2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9EA78-C7B3-45E7-905D-5B556BAED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FC592-E65A-4D85-B3B8-959ABCA9F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AADED-0F3E-4211-B315-BABA3B7B6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EBCA58-4D86-46A2-93CF-EDEBA85577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3395E-3D43-4E1B-BC60-117C23620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2BAD6-B9E5-4658-99C1-5BA90A49A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3A74E-DE12-4465-B79D-8AD9012E7B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860D7-B1A9-49B8-AB94-A8E98CA0E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5F017-C5D8-4D0D-94D5-2604EA26A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7B675-5542-41D8-B20F-AF7A7657F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24D0E-20D4-4EFA-B05D-CD4025DC4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121A5-448E-4F72-AAA0-9791F5781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66011-D2B7-42D3-BB29-9045CBF81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7812F-B99E-4D6B-909F-16BE65C2D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3CA3E0-28D8-43B2-A06F-41F9F345DD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DB54D3-459C-4D72-AED7-8F59E08C00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C0679-A367-4B04-A646-32BE0DE5D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B8D62-5169-42A2-A259-507960FAF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E33C5-618F-4A27-AD98-111C51255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32A9F-15F0-43BC-A11C-10F80B0CF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C4B54-F7AD-4658-9A1C-28B9A9317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F77AF-EB6A-4FF6-AEC1-9D91AE054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01439-2C77-4B48-B2EB-40FF9362A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A7795-F5C0-40EA-AC02-5437F8A339E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CCA66-D553-4F2A-BC38-6667D876D03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tical Ideas On Alternative Assessment For ESL Students</a:t>
            </a:r>
            <a:br>
              <a:rPr sz="3600"/>
            </a:br>
            <a:br>
              <a:rPr sz="3600"/>
            </a:br>
            <a:endParaRPr b="0" lang="en-US" sz="36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Jo-Ellen Tannenbaum, Montgomery County Public Schools (MD)</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ral And Written Products</a:t>
            </a:r>
            <a:br>
              <a:rPr sz="3200"/>
            </a:br>
            <a:endParaRPr b="0" lang="en-US" sz="3200" spc="-1" strike="noStrike">
              <a:solidFill>
                <a:srgbClr val="0066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Verdana"/>
              </a:rPr>
              <a:t>Content area logs</a:t>
            </a:r>
            <a:r>
              <a:rPr b="0" lang="en-US" sz="2900" spc="-1" strike="noStrike">
                <a:solidFill>
                  <a:srgbClr val="000000"/>
                </a:solidFill>
                <a:latin typeface="Verdana"/>
              </a:rPr>
              <a:t> are designed to encourage the use of metacognitive strategies when students read expository text. Entries can be made on a form with these two headings: What I Understood/What I Didn't Understand (ideas or vocabular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7080"/>
            <a:ext cx="82296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Verdana"/>
              </a:rPr>
              <a:t>Reading response logs</a:t>
            </a:r>
            <a:r>
              <a:rPr b="0" lang="en-US" sz="2900" spc="-1" strike="noStrike">
                <a:solidFill>
                  <a:srgbClr val="000000"/>
                </a:solidFill>
                <a:latin typeface="Verdana"/>
              </a:rPr>
              <a:t> are used for students' written responses or reactions to a piece of literature. Students may respond to questions--some generic, some specific to the literature--that encourage critical thinking, or they may copy a brief text on one side of the page and write their reflections on the text on the other sid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173880"/>
            <a:ext cx="7313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eginning ESL students often experience success when an expository </a:t>
            </a:r>
            <a:r>
              <a:rPr b="0" i="1" lang="en-US" sz="2500" spc="-1" strike="noStrike">
                <a:solidFill>
                  <a:srgbClr val="000000"/>
                </a:solidFill>
                <a:latin typeface="Verdana"/>
              </a:rPr>
              <a:t>writing assignment</a:t>
            </a:r>
            <a:r>
              <a:rPr b="0" lang="en-US" sz="2500" spc="-1" strike="noStrike">
                <a:solidFill>
                  <a:srgbClr val="000000"/>
                </a:solidFill>
                <a:latin typeface="Verdana"/>
              </a:rPr>
              <a:t> is controlled or structured. The teacher can guide students through a pre-writing stage, which includes discussion, brainstorming, webbing, outlining, and so on. The results of pre-writing, as well as the independently written product, can be assessed.</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173880"/>
            <a:ext cx="7313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Verdana"/>
              </a:rPr>
              <a:t>Dialogue journals</a:t>
            </a:r>
            <a:r>
              <a:rPr b="0" lang="en-US" sz="2900" spc="-1" strike="noStrike">
                <a:solidFill>
                  <a:srgbClr val="000000"/>
                </a:solidFill>
                <a:latin typeface="Verdana"/>
              </a:rPr>
              <a:t> provide a means of interactive, ongoing correspondence between students and teachers. Students determine the choice of topics and participate at their level of English language proficiency. Beginners can draw pictures that can be labeled by the teacher.</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173880"/>
            <a:ext cx="7313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Verdana"/>
              </a:rPr>
              <a:t>Audio and video cassettes</a:t>
            </a:r>
            <a:r>
              <a:rPr b="0" lang="en-US" sz="2900" spc="-1" strike="noStrike">
                <a:solidFill>
                  <a:srgbClr val="000000"/>
                </a:solidFill>
                <a:latin typeface="Verdana"/>
              </a:rPr>
              <a:t> can be made of student oral readings, presentations, dramatics, interviews, or conferences (with teacher or peer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rtfolios </a:t>
            </a:r>
            <a:br>
              <a:rPr sz="3200"/>
            </a:br>
            <a:endParaRPr b="0" lang="en-US" sz="3200" spc="-1" strike="noStrike">
              <a:solidFill>
                <a:srgbClr val="006666"/>
              </a:solidFill>
              <a:latin typeface="Arial"/>
            </a:endParaRPr>
          </a:p>
        </p:txBody>
      </p:sp>
      <p:sp>
        <p:nvSpPr>
          <p:cNvPr id="11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intain anecdotal records from your reviews of portfolios and from regularly scheduled conferences with students about the work in their portfolios; </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keep checklists that link portfolio work with criteria that they consider integral to the type of work being collected; </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vise continua of descriptors to plot student achievement. Whatever methods teachers choose, they should reflect with students on their work, to develop students' ability to critique their own progres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rtfolio Artifacts</a:t>
            </a:r>
            <a:endParaRPr b="0" lang="en-US" sz="3600" spc="-1" strike="noStrike">
              <a:solidFill>
                <a:srgbClr val="006666"/>
              </a:solidFill>
              <a:latin typeface="Arial"/>
            </a:endParaRPr>
          </a:p>
        </p:txBody>
      </p:sp>
      <p:sp>
        <p:nvSpPr>
          <p:cNvPr id="12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dio- and videotaped recordings of readings or oral presentations. </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riting samples such as dialogue journal entries, book reports, writing assignments (drafts or final copies), reading log entries, or other writing projects. </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rt work such as pictures or drawings, and graphs and charts. </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erence or interview notes and anecdotal records. </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hecklists (by teacher, peers, or student). </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ests and quizzes. </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07080"/>
            <a:ext cx="82296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lthough there is no single definition of alternative assessment, the main goal is to "gather evidence about how students are approaching, processing, and completing real-life tasks in a particular domain" (Huerta-Macias, 1995, p. 9).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7080"/>
            <a:ext cx="82296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ocus is on documenting individual student growth over time, rather than comparing students with one another. </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mphasis is on students' strengths (what they know), rather than weaknesses (what they don't know). </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sideration is given to the learning styles, language proficiencies, cultural and educational backgrounds, and grade levels of students. </a:t>
            </a:r>
            <a:endParaRPr b="0" lang="en-US" sz="25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onverbal Assessment Strategies</a:t>
            </a:r>
            <a:br>
              <a:rPr sz="3200"/>
            </a:br>
            <a:endParaRPr b="0" lang="en-US" sz="32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rot="10800000">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66"/>
                </a:solidFill>
                <a:latin typeface="Arial"/>
              </a:rPr>
              <a:t>Physical Demonstration</a:t>
            </a:r>
            <a:r>
              <a:rPr b="0" lang="en-US" sz="3600" spc="-1" strike="noStrike">
                <a:solidFill>
                  <a:srgbClr val="006666"/>
                </a:solidFill>
                <a:latin typeface="Arial"/>
              </a:rPr>
              <a:t>.</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o express academic concepts without speech, students can point or use other gestures. They can also be asked to perform hands-on tasks or to act out vocabulary, concepts, or events. As a comprehension check in a unit on Native Americans, for example, teachers can ask students to respond with thumbs up, thumbs down, or other nonverbal signs to true or false statements or to indicate whether the teacher has grouped illustrations (of homes, food, environment, clothing, etc.) under the correct tribe name. The teacher can use a checklist to record student responses over time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66"/>
                </a:solidFill>
                <a:latin typeface="Arial"/>
              </a:rPr>
              <a:t>Pictorial Products</a:t>
            </a:r>
            <a:endParaRPr b="0" lang="en-US" sz="36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To elicit content knowledge without requiring students to speak or write, teachers can ask students to produce and manipulate drawings, dioramas, models, graphs, and charts. When studying Colonial America, for example, teachers can give students a map of the colonies and labels with the names of the colonies. Students can then attempt to place the labels in the appropriate locations. This labeling activity can be used across the curriculum with diagrams, webs, and illustration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7080"/>
            <a:ext cx="82296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0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 culminate a unit on butterflies, teachers can ask beginning ESL students to illustrate, rather than explain, the life cycle of butterflies. Students can point to different parts of a butterfly on their own drawing or on a diagram as an assessment of vocabulary retention. Pictorial journals can be kept during the unit to record observations of the butterflies in the classroom or to illustrate comprehension of classroom material about types of butterflies, their habitats, and their characteristic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K-W-L Charts</a:t>
            </a:r>
            <a:br>
              <a:rPr sz="3200"/>
            </a:br>
            <a:endParaRPr b="0" lang="en-US" sz="32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eachers have success using K-W-L charts (what I </a:t>
            </a:r>
            <a:r>
              <a:rPr b="0" i="1" lang="en-US" sz="2100" spc="-1" strike="noStrike">
                <a:solidFill>
                  <a:srgbClr val="000000"/>
                </a:solidFill>
                <a:latin typeface="Verdana"/>
              </a:rPr>
              <a:t>know</a:t>
            </a:r>
            <a:r>
              <a:rPr b="0" lang="en-US" sz="2100" spc="-1" strike="noStrike">
                <a:solidFill>
                  <a:srgbClr val="000000"/>
                </a:solidFill>
                <a:latin typeface="Verdana"/>
              </a:rPr>
              <a:t>/what I </a:t>
            </a:r>
            <a:r>
              <a:rPr b="0" i="1" lang="en-US" sz="2100" spc="-1" strike="noStrike">
                <a:solidFill>
                  <a:srgbClr val="000000"/>
                </a:solidFill>
                <a:latin typeface="Verdana"/>
              </a:rPr>
              <a:t>want</a:t>
            </a:r>
            <a:r>
              <a:rPr b="0" lang="en-US" sz="2100" spc="-1" strike="noStrike">
                <a:solidFill>
                  <a:srgbClr val="000000"/>
                </a:solidFill>
                <a:latin typeface="Verdana"/>
              </a:rPr>
              <a:t> to know/what I've </a:t>
            </a:r>
            <a:r>
              <a:rPr b="0" i="1" lang="en-US" sz="2100" spc="-1" strike="noStrike">
                <a:solidFill>
                  <a:srgbClr val="000000"/>
                </a:solidFill>
                <a:latin typeface="Verdana"/>
              </a:rPr>
              <a:t>learned</a:t>
            </a:r>
            <a:r>
              <a:rPr b="0" lang="en-US" sz="2100" spc="-1" strike="noStrike">
                <a:solidFill>
                  <a:srgbClr val="000000"/>
                </a:solidFill>
                <a:latin typeface="Verdana"/>
              </a:rPr>
              <a:t>) to begin and end a unit of study, particularly in social studies and science. Before the unit, this strategy enables teachers to gain an awareness of students' background knowledge and interests. Afterward, it helps teachers assess the content material learned. K-W-L charts can be developed as a class activity or on an individual basis. For students with limited English proficiency, the chart can be completed in the first language or with illustra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ral Performances or Presentations</a:t>
            </a:r>
            <a:br>
              <a:rPr sz="3200"/>
            </a:br>
            <a:endParaRPr b="0" lang="en-US" sz="32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erformance-based assessments include interviews, oral reports, role plays, describing, explaining, summarizing, retelling, paraphrasing stories or text material, and so on. Oral assessments should be conducted on an ongoing basis to monitor comprehension and thinking skill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9T16:11:22Z</dcterms:created>
  <dc:creator>College of Education</dc:creator>
  <dc:description/>
  <dc:language>en-US</dc:language>
  <cp:lastModifiedBy>College of Education</cp:lastModifiedBy>
  <dcterms:modified xsi:type="dcterms:W3CDTF">2006-07-09T16:41:25Z</dcterms:modified>
  <cp:revision>3</cp:revision>
  <dc:subject/>
  <dc:title>Practical Ideas On Alternative Assessment For ESL Students  </dc:title>
</cp:coreProperties>
</file>